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29D-F6DA-441D-8407-670784DFB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37B3-2A22-4E53-901A-23F967F98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CF3-F289-499C-865B-3195E5E5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232-8A77-4C50-AAE2-FD295F7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090-9E68-4F23-A2A3-6F38334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BD8-6A33-4516-9117-93907FF1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4DB9-0CAE-4DB2-9806-D3D87ED0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C44A-7434-46EA-8756-22DB3B3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829-F602-4C34-BA59-5200BE0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CEFD-6FFF-4A7D-9224-34DE5C3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45F8-B10F-4752-9B19-7479F32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8D5C-E937-4AA0-A8B3-A5C4B4CF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88B-986B-447F-AD85-3375092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305-5121-4F83-B6F7-0761A033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4524-584B-4FF9-9F62-49F56D8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B4C-8328-4189-8EBD-5AED6B2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1D5D-0711-413F-A73A-0F2AAC5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68F5-8E6A-44FF-B600-4FABA6E3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DD74-EC91-4A92-93AE-68005810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694E-E9CC-4942-AC4B-FAFCAE3E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7F81-6238-4200-AF75-CDA9ACC6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A14C-0757-4046-BFEF-16ABFD32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EF65-3B73-4209-951A-87FB429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5321-6450-4547-A834-13C85411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0AC-0199-4C71-97A7-AF490509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3776-C5FA-4BF7-AA46-DA3BB32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E4F13-2A96-4181-BA14-41D3A2A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80C7-2715-425C-8A5F-9D20034A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588D-1DF2-4893-9F88-C88A998B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71B0-9DA8-4106-AD9E-3562374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7AC2-2FA6-470B-98FD-B70F53EB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95CB-7EF3-461F-ABAD-569BB7B7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95741-97B4-46E9-A752-20970A46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A10D-2C9E-4D2D-AEB9-913FFA9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1D37-9A41-4BB2-A191-746EBAC7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30A-84ED-48A9-A654-42BF219D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0639-5ED4-4C86-AE39-E714A67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70F0-C693-4F45-AFB0-72341EC8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A7A2-BE1F-434B-A501-D9E71CD6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030B-373F-47E1-ADEE-33308C3B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C68E-1E5B-4124-B18B-AA75230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2589-3F89-47D7-91F7-E02DE99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C89C-9379-44FA-81EB-92B5BEE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CF6B6-8537-4FFD-9CFE-266E5F3A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2892-BB0C-466A-9C45-235037CA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3FC0B-CA42-4780-B7BC-09CFC990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765-C77F-43C4-BE4E-D3FA8CF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09FB-967C-499C-9CD0-B588DEC9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D9814-1901-40EF-ACFB-2FD2099A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563A-7604-47D7-92DA-DD2C333B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73AE-5F63-449A-B24A-9E72F70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3F12-7702-48DB-BFE1-A57031AB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CD749-D4AA-4FBC-94F7-7B66978D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137F-D22D-417C-A461-4D34B9F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8F69-8094-4F5E-82C5-B67F48EF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06A1-84A8-40E8-9D65-21C1E9B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9815-7A4B-4DD0-98A9-F1B4EA4E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85F-2013-429A-99A7-8808DC2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F0D9-BD96-477A-BE1F-2BAA845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A29F-A95C-453F-A978-A641BBC3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78C6-1B84-4D32-9D20-8A6F3FE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B881-DC1B-4A23-B9AA-8442FAE9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62DB-47A5-4F71-A483-17CE86A2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522B-5A50-4840-A0BD-7C138323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7BD7-6ED4-4A83-B408-2C492B7B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7B647-4D24-41E5-9C07-839CD867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9994-2E17-40CF-85E3-25FEA0B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2DC08-77CC-4147-98D5-E0253BDC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B4C-7A6B-4EEE-A56D-2B37772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3A0AC-EDA9-45C1-9C3C-6AD15EA9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8CAFB-3440-42E7-8615-C90B2431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5F80-020E-4BB0-8213-CF2ACDF1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9D75-BCA9-4067-9501-C37D741D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491A-FBCB-49EC-A3C8-D2C60241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DA7D-8087-426D-8D5E-17DE6B96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FCF9-49BE-41D5-816C-42F5204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355A-26E4-4F84-B42A-3C9D1AD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1A87-C504-4F56-81B4-3A351793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1DB1-7D69-4B1B-827D-0AEBE47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244-1FC3-4103-B7BF-E39AB78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F2867-DB0E-42C2-9EAC-E272995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FE19-052D-4DC7-A22F-7942028C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A9D3-91B1-4A78-A1A4-6017F00C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3C8B-7F19-4724-A37B-885EF974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02C8-A91D-483C-9DE5-7DB724C6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4F906-E67C-409C-B0DC-8867D6E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DDD6-D1D0-4460-A0FB-547E31C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FAC4E-B312-4C9A-819A-1C43780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68CF-45DE-4105-BC73-A33AA776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1AA52-0FCE-4401-9E9F-6BDA4C03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BBF-905F-4DF3-91CF-3720D1A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C95B-42EF-4EDA-88DF-B28948B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C95D-5D95-4D6A-BB4F-6C0C9BB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51AB-7D46-4CE0-8745-9C07165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91745-3048-4616-A29A-C5A5562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8651-1DE9-4219-B330-18C5E2D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2E78-4173-4E15-9198-4ADA1402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0273C-97C6-4D41-8780-B7934F99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359-0380-412B-8BE7-5AE7974171A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B6F-5D7C-457A-94C3-D6E3DE11B18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011-4444-409E-8261-39E10174B550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46B9-97A8-4A5E-9632-445B907A51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D04C-35F7-4BBE-9830-07ED3D3E862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7956-D806-4DEE-9F1A-85F46E9D32B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2AB-CDC9-45EC-A0E1-248087BC7FA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4D4-0D0B-4FCB-AA56-0A1A69B13DD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380880" y="304920"/>
            <a:ext cx="8382240" cy="664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ation of Livestock Production Systems and the Potential for Enhancing Productivity through Improved Feeding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lemera and Wuchale Districts, Ethi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i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Holeta Agricultural Resear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</a:rPr>
              <a:t>Problems Identified As more important Using Pair wise Ranking -Wolemr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560" y="1219320"/>
            <a:ext cx="4041720" cy="539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fta Tokofa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shortage in both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and quanti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knowled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improved bre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Manage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 of Health servic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2120" y="1215720"/>
            <a:ext cx="4041720" cy="533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 Gebya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  Low milk price/high cost of milk produ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I services and time spending tending anim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 shortage in bo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and quant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ck of availability of improved br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kking of long distance for fetching of  water from watering poi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1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ssible solu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40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refta Toko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i gebe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371240"/>
            <a:ext cx="40384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ing of improved forage crops at backyard, around fence, farm sid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ng the herd size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the utilization of straws of different food crops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farmers with continues training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48320" y="1371240"/>
            <a:ext cx="40384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rganizing farmers to transport their milk to terminal market (Addis Ababa)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viding farmers with a greater understanding of common diseases in the area will improve the health of their anim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trengthen the capacity of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farmers to use underground wat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0" y="6094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nd holding  -Wuc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0" y="228600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4419720" y="22860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jor sources of livelihoods,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-762120" y="190512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3886200" y="190512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4497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erage livestock holding (TLU),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2438280"/>
            <a:ext cx="4495680" cy="3581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404028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ela-Wer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40417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4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osoka-J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1295280" y="3049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ed Resources Contribution - Wuc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87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060"/>
                </a:solidFill>
                <a:latin typeface="Bookman Old Style"/>
              </a:rPr>
              <a:t>Problems Identified As The more important Using Pair wise Ranking -Wucahl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chela wert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igh cost and poor quality of supplementary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nimal health problem and lack of vet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adequate AI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Lack of improved bree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soka -j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  low milk pr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  High cost and poor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y  supplementary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 Lack of improved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eeds/AI serv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mited animal health services provi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002060"/>
                </a:solidFill>
                <a:latin typeface="Bookman Old Style"/>
              </a:rPr>
              <a:t>Possible Solu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ela wort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mproving the feeding value of crop residues through Improved technolog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crease biomass yield, use of nutritionally and potentially improved forage crops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use of oats hay, and reducing the number of animal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 increase the number of local drug sh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crease the number of health service providers and enhance education on control of diseases and vaccinations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oka -j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Organizing farmers to transport their milk to terminal market (Addis Ababa)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ing of improved forage crops at backyard, around fence, farm si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I service to selected best body condition local dairy cows and increasing awareness in improved livestock managem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crease the number of health service providers and enhance education on control of diseases and vaccinat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Lessons Learned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  More Key informants might give more representative resul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is tool is Important and save time to design  intervention strategies aiming to optimize feed utilization and animal prod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T Tool(Excel Software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)and stucture questione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further improv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learning process for the te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ookman Old Style"/>
              </a:rPr>
              <a:t>The way forwar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 simple feed processing technologies to improve the quality of the existing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 fodder crops to improve the quantity and quality of f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ing adequate training to farmers in Techniques of disease prevention, feed management record keep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engthen the capacity of Cooperatives, unions, AI and health services at villag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engthen the linkage between Research,extensoin and farm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nking with sustainable  formal market acc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Back Groun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ill Sans MT"/>
              </a:rPr>
              <a:t>The FEAST (Feed Assessment Tool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systematic Method to rapidly assess the livestock production system and feed resource base in the smallholder contex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EAST Helps in the design of intervention strategies aiming to optimize feed utilization and animal p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ool was tested in two selected woredas (Wolmera and Wuchale) in the central highlands of Ethiopi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Objective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buClr>
                <a:srgbClr val="00b050"/>
              </a:buClr>
              <a:buSzPct val="9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 the application of FEAST for rapid assessment and characterization of livestock production systems and the feed resource base in the two woreda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Methodology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219320"/>
            <a:ext cx="9036000" cy="493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lme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uchal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Berfeta                  Robi                                                                                                      Wechela                                      Bosoka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Tokofa                  Gebya                                                                                                     Wertu                                            Jate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ill Sans MT"/>
              </a:rPr>
              <a:t>Selection Criteria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Dairy production system (one village based on local cattle and the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other village market oriented using crossbred cattle)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12 – 14 farmers (2-5 women) selected (wealth status, gender,  age 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groups)  from each village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Responses collected during the key informant interview to calculate 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approximate average values Were analyzed using Microsoft Excel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3124080" y="2590920"/>
            <a:ext cx="2087640" cy="108900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selecte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5"/>
          <p:cNvCxnSpPr/>
          <p:nvPr/>
        </p:nvCxnSpPr>
        <p:spPr>
          <a:xfrm flipH="1">
            <a:off x="304200" y="1523520"/>
            <a:ext cx="864360" cy="12992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6" name="Straight Arrow Connector 6"/>
          <p:cNvCxnSpPr/>
          <p:nvPr/>
        </p:nvCxnSpPr>
        <p:spPr>
          <a:xfrm>
            <a:off x="1218240" y="1523880"/>
            <a:ext cx="686520" cy="13723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/>
          <p:nvPr/>
        </p:nvCxnSpPr>
        <p:spPr>
          <a:xfrm flipH="1">
            <a:off x="6552360" y="1523520"/>
            <a:ext cx="793080" cy="129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8" name="Straight Arrow Connector 9"/>
          <p:cNvCxnSpPr/>
          <p:nvPr/>
        </p:nvCxnSpPr>
        <p:spPr>
          <a:xfrm>
            <a:off x="7315200" y="1523520"/>
            <a:ext cx="1008720" cy="12963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Gill Sans MT"/>
              </a:rPr>
              <a:t>Major Findings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4497480" cy="92376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0" y="1218960"/>
            <a:ext cx="4572000" cy="99036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txBody>
          <a:bodyPr anchor="b">
            <a:normAutofit fontScale="3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0" y="220968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8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nd holding  -Wolm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495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648320" cy="106704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0240" y="1066680"/>
            <a:ext cx="4343400" cy="106704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txBody>
          <a:bodyPr anchor="b">
            <a:normAutofit fontScale="3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ecf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Major sources of livelihoods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0" y="213372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4191120" cy="84780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66720" y="1294920"/>
            <a:ext cx="4876920" cy="83844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txBody>
          <a:bodyPr anchor="b">
            <a:normAutofit fontScale="1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Robe-Geby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464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verage livestock holding (TLU)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4191120" cy="3549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4191120" y="21337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Berfeta Tokkoff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1640" y="1218960"/>
            <a:ext cx="404172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rmAutofit fontScale="1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fb8cd"/>
                </a:solidFill>
                <a:latin typeface="Gill Sans MT"/>
              </a:rPr>
              <a:t>                 </a:t>
            </a:r>
            <a:r>
              <a:rPr b="1" lang="en-US" sz="1900" spc="-1" strike="noStrike">
                <a:solidFill>
                  <a:srgbClr val="9fb8cd"/>
                </a:solidFill>
                <a:latin typeface="Gill Sans MT"/>
              </a:rPr>
              <a:t>Robe Geby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457200" y="304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ed resources Contribution - Wol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506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90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37:57Z</dcterms:created>
  <dc:creator>Wamatu, Jane</dc:creator>
  <dc:description/>
  <dc:language>en-US</dc:language>
  <cp:lastModifiedBy>PBallantyne</cp:lastModifiedBy>
  <dcterms:modified xsi:type="dcterms:W3CDTF">2012-06-04T17:55:40Z</dcterms:modified>
  <cp:revision>190</cp:revision>
  <dc:subject/>
  <dc:title>FEAST</dc:title>
</cp:coreProperties>
</file>